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6D80-5BC9-47C5-AE2F-030ABB96C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4L13 question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last points in las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
          <p:cNvSpPr/>
          <p:nvPr/>
        </p:nvSpPr>
        <p:spPr>
          <a:xfrm>
            <a:off x="304920" y="5410080"/>
            <a:ext cx="655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am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ul is dead, now therefore David aris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By direction from God he went up to Hebron, and was there anointed king v. 1-4.</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 He returned thanks to the men of Jabesh-gilead for burying Saul v. 5-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 Ishbosheth, the son of Saul, is set up in opposition to him v. 8-11. Abner encouraging this divis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A heated encounter happens between David's party and Ishbosheth's. Israel loses 360 men.</a:t>
            </a: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de that was not really seeking the will of God was the side that was now divided among themselves. Abner is now at odds with Ishboshe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hbosheth’s accusation of Abner made him mad enough to determine to return to David’s s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tually goes to Hebron to make a formal peace treaty between himself and Davi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bron was the place of David’s earliest years as 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of the City. - Hebron is said to have been rounded before Zoan (i.e. Tanis) in Egypt (Num 13:22); its ancient name was Kiriath-arba, probably meaning the "Four Cities," perhaps because divided at one time into four quarters, but according to Jewish writers so called because four patriarchs, Abraham, Isaac, Jacob and Adam were buried there. According to Josh 15:13 it was so called after Arba, the father of An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when a fugitive, received kindness from the people of this city (1 Sam 30:31); here Abner was treacherously slain by Joab at the gate (2 Sam 3:27), and the sons of Rimmon, after their hands and feet had been cut off, were hanged "beside the pool" (4:12). After the death of Saul, David was here anointed king (5:3) and reigned here 7 1/2 years, until he captured Jerusalem and made that his capital (5:5); while here, six sons were born to him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International Standard Bible Encyclopaedia, Electronic Database Copyright (c)1996 by Bib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ab, without the knowledge of David,  recalled abner to Hebron where he slew him, "for the blood of Asahel his brother." David mourned sincerely the death of Abner. "Know ye not," he addressed his servants, "that there is a prince and a great man fallen this day in Israel?" He followed the bier in person. Of the royal lament over Abner a fragment is quo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bner die as a fool di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 hands were not bound, nor thy feet put into f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n falleth before the children of iniquity, so didst thou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2 Sam 3:6-38.) The death of Abner, while it thus cannot in any wise be laid at the door of David, nevertheless served his purposes well. The backbone of the opposition to David was broken, and he was soon proclaimed as king by all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International Standard Bible Encyclopaedia, Electronic Database Copyright (c)1996 by Bib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rrow David expressed for Abner had a unifying effect on the rest of the Israeli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4: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everal things which aggravated the guilt of those wicke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h-bosheth was an innocent man, and therefore none could have any ground of quarrel agains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e was in his own house, which was his sanctuary, and none but the worst of men would disturb him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e was upon his bed, resting in the heat of the day, and so free from suspicion that he was not even attended by his guards, nor did he have his doors sec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way the life of such a man, in such circumstances, whom also they professed to hold as their sovereign, was the most abandoned treach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dam Clarke's Commentary, Electronic Database. Copyright (c) 1996 by Bible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Hebron becomes the center of a just and admiral king. It is rich in History for God’s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B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surrounding Hebron is rich in biblical history. Abram spent much of his time in Mamre in the area of Hebron (Gen 13:18). He was living in Mamre when the confederacy of kings overthrew the CITIES OF THE PLAIN and captured Lot (Gen 14:1-13). Here, too, Abram's name was changed to Abraham (Gen 17:5). At Hebron the angels revealed to Abraham that he would have a son who would be called Isaac (Gen 18:1-15). Later, Sarah died at Hebron (Gen 23:2); Abraham bought the cave of MACHPELAH as her burial place (Gen 2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period of the conquest of the land of Canaan, Joshua killed the king of Hebron (Josh 10:3-27). Later, Caleb drove out the Anakim and claimed Hebron for his inheritance (Josh 14:12-15). Hebron was also designated as one of the CITIES OF REFUGE (Josh 20:7). David ruled from Hebron the first seven years of his reign (2 Sam 2:11), after which he established Jerusalem as his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lson's Illustrated Bible Dictionary, Copyright (c)1986, Thomas Nelson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DE3EC0-732A-4178-89F1-122F61F52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B5AE13-70DD-4429-8873-A636B8813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3E2902-37EA-43BF-967E-DA51081D90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405F0D-63DF-4679-AECB-1D5BE2DE7A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35C76-3FE1-4884-B8DE-3135A3C84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8C134-445A-44FD-8C2C-A42779102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C6289-D9FB-42FD-B8A8-9872A05A1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68955-F3F5-4444-BB94-3893FE7B3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C3A8A-8328-4A6B-9E42-EDD3241AD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E645F-C828-443D-83A1-0B3D898F7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766EB-6F6A-4091-BC28-58D1BDEFF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3D347E-41F5-447C-8471-9487312BE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A8077-8DFB-4180-B4A0-21BEA31A3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83D4D-27D5-4C5C-8069-80D9C3E16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92B3E-EA28-4AC1-AD92-6184E5123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B5DEC-0AD6-454A-A367-59F8460C8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7997D-9C1B-4AF6-A798-17159D508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5391BC-E76E-4EBC-A5AA-C790B7BBC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F6A8D3-633D-429B-9A23-901F190F3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E91B6F-F08F-45E7-AF0B-0037C1FA3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4725FF-25AF-443E-B4FA-92ECDD4D68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E9718-E2C7-413C-9E6D-7423149C3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E313D6-9DFD-4BBA-B21A-FD44A18C0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6A21E8-E3A7-46F5-ACA3-C90D4706A5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36B4-2E47-4B1D-8ED5-0F2C479DE8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05A2-61A6-46A1-A093-AF6719F18D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e United Kingdom</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uarter 4, Lesson 14</a:t>
            </a:r>
            <a:endParaRPr b="1"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Sam. 3:6 – 4:12</a:t>
            </a:r>
            <a:endParaRPr b="1"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g. 51-53</a:t>
            </a:r>
            <a:endParaRPr b="1" lang="en-US" sz="2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Abner Negotiates with David – 2 Sam. 3:6-22</a:t>
            </a:r>
            <a:endParaRPr b="0" lang="en-US" sz="3900" spc="-1" strike="noStrike">
              <a:solidFill>
                <a:srgbClr val="ffffff"/>
              </a:solidFill>
              <a:latin typeface="Arial"/>
            </a:endParaRPr>
          </a:p>
        </p:txBody>
      </p:sp>
      <p:sp>
        <p:nvSpPr>
          <p:cNvPr id="1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er made himself strong for the house of Sau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accused by Ish-bosheth of cohabiting with Rizpah, Saul's concubin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er is enraged and offers his services to Davi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goes to Hebron, and makes an agreement with David, v. 6-22.</a:t>
            </a:r>
            <a:endParaRPr b="0" lang="en-US" sz="2800" spc="-1" strike="noStrike">
              <a:solidFill>
                <a:srgbClr val="ffffff"/>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repl">
                                        <p:cTn id="7"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 calcmode="lin" valueType="num">
                                      <p:cBhvr additive="repl">
                                        <p:cTn id="15" dur="10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1" end="1"/>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3" end="3"/>
                                            </p:txEl>
                                          </p:spTgt>
                                        </p:tgtEl>
                                        <p:attrNameLst>
                                          <p:attrName>style.visibility</p:attrName>
                                        </p:attrNameLst>
                                      </p:cBhvr>
                                      <p:to>
                                        <p:strVal val="visible"/>
                                      </p:to>
                                    </p:set>
                                    <p:anim calcmode="lin" valueType="num">
                                      <p:cBhvr additive="repl">
                                        <p:cTn id="31" dur="10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3" end="3"/>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5937120"/>
          </a:xfrm>
          <a:prstGeom prst="rect">
            <a:avLst/>
          </a:prstGeom>
          <a:ln w="0">
            <a:noFill/>
          </a:ln>
        </p:spPr>
      </p:pic>
      <p:sp>
        <p:nvSpPr>
          <p:cNvPr id="126" name=""/>
          <p:cNvSpPr/>
          <p:nvPr/>
        </p:nvSpPr>
        <p:spPr>
          <a:xfrm>
            <a:off x="3200400" y="4648320"/>
            <a:ext cx="838080" cy="4572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133720" y="6324480"/>
            <a:ext cx="541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ce From Which David Rules</a:t>
            </a:r>
            <a:endParaRPr b="0" lang="en-US" sz="1800" spc="-1" strike="noStrike">
              <a:solidFill>
                <a:srgbClr val="ffffff"/>
              </a:solidFill>
              <a:latin typeface="Arial"/>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2000"/>
                                        <p:tgtEl>
                                          <p:spTgt spid="126"/>
                                        </p:tgtEl>
                                      </p:cBhvr>
                                    </p:animEffect>
                                    <p:anim calcmode="lin" valueType="num">
                                      <p:cBhvr additive="repl">
                                        <p:cTn id="42" dur="2000" fill="hold"/>
                                        <p:tgtEl>
                                          <p:spTgt spid="126"/>
                                        </p:tgtEl>
                                        <p:attrNameLst>
                                          <p:attrName>r</p:attrName>
                                        </p:attrNameLst>
                                      </p:cBhvr>
                                      <p:tavLst>
                                        <p:tav tm="0">
                                          <p:val>
                                            <p:strVal val="720"/>
                                          </p:val>
                                        </p:tav>
                                        <p:tav tm="100000">
                                          <p:val>
                                            <p:strVal val="0"/>
                                          </p:val>
                                        </p:tav>
                                      </p:tavLst>
                                    </p:anim>
                                    <p:anim calcmode="lin" valueType="num">
                                      <p:cBhvr additive="repl">
                                        <p:cTn id="43" dur="2000" fill="hold"/>
                                        <p:tgtEl>
                                          <p:spTgt spid="126"/>
                                        </p:tgtEl>
                                        <p:attrNameLst>
                                          <p:attrName>ppt_h</p:attrName>
                                        </p:attrNameLst>
                                      </p:cBhvr>
                                      <p:tavLst>
                                        <p:tav tm="0">
                                          <p:val>
                                            <p:fltVal val="0"/>
                                          </p:val>
                                        </p:tav>
                                        <p:tav tm="100000">
                                          <p:val>
                                            <p:strVal val="#ppt_h"/>
                                          </p:val>
                                        </p:tav>
                                      </p:tavLst>
                                    </p:anim>
                                    <p:anim calcmode="lin" valueType="num">
                                      <p:cBhvr additive="repl">
                                        <p:cTn id="44"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Abner is killed –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cc00"/>
                </a:solidFill>
                <a:latin typeface="Arial"/>
              </a:rPr>
              <a:t>2 Sam. 3:22-39</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b, through enmity to Abner, pretends to David that Abner came as a spy, and should not be permitted to return, v. 23-2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b follows Abner and treacherously kills him, v. 26-27.</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hearing of it is greatly incensed against Joab, and pronounces a curse upon Joab and his family, v. 28-29.</a:t>
            </a:r>
            <a:endParaRPr b="0" lang="en-US" sz="2800" spc="-1" strike="noStrike">
              <a:solidFill>
                <a:srgbClr val="ffffff"/>
              </a:solidFill>
              <a:latin typeface="Arial"/>
            </a:endParaRPr>
          </a:p>
        </p:txBody>
      </p:sp>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129">
                                            <p:txEl>
                                              <p:pRg st="0" end="0"/>
                                            </p:txEl>
                                          </p:spTgt>
                                        </p:tgtEl>
                                        <p:attrNameLst>
                                          <p:attrName>style.visibility</p:attrName>
                                        </p:attrNameLst>
                                      </p:cBhvr>
                                      <p:to>
                                        <p:strVal val="visible"/>
                                      </p:to>
                                    </p:set>
                                    <p:anim calcmode="lin" valueType="num">
                                      <p:cBhvr additive="repl">
                                        <p:cTn id="51"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12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12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129">
                                            <p:txEl>
                                              <p:pRg st="1" end="1"/>
                                            </p:txEl>
                                          </p:spTgt>
                                        </p:tgtEl>
                                        <p:attrNameLst>
                                          <p:attrName>style.visibility</p:attrName>
                                        </p:attrNameLst>
                                      </p:cBhvr>
                                      <p:to>
                                        <p:strVal val="visible"/>
                                      </p:to>
                                    </p:set>
                                    <p:anim calcmode="lin" valueType="num">
                                      <p:cBhvr additive="repl">
                                        <p:cTn id="59" dur="10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129">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12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2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129">
                                            <p:txEl>
                                              <p:pRg st="2" end="2"/>
                                            </p:txEl>
                                          </p:spTgt>
                                        </p:tgtEl>
                                        <p:attrNameLst>
                                          <p:attrName>style.visibility</p:attrName>
                                        </p:attrNameLst>
                                      </p:cBhvr>
                                      <p:to>
                                        <p:strVal val="visible"/>
                                      </p:to>
                                    </p:set>
                                    <p:anim calcmode="lin" valueType="num">
                                      <p:cBhvr additive="repl">
                                        <p:cTn id="67" dur="10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12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12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Weeping for Abner</a:t>
            </a:r>
            <a:endParaRPr b="0" lang="en-US" sz="3900" spc="-1" strike="noStrike">
              <a:solidFill>
                <a:srgbClr val="ffffff"/>
              </a:solidFill>
              <a:latin typeface="Arial"/>
            </a:endParaRPr>
          </a:p>
        </p:txBody>
      </p:sp>
      <p:sp>
        <p:nvSpPr>
          <p:cNvPr id="1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ommands a general mourning for Abner, and David himself follows the casket weeping, v. 30-32.</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s lamentation over Abner, v. 33-3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ople solicit David to receive food; but he fasts for the whole da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omplains to them of the insolence and intrigues of Joab and his brothers; the people are pleased with his conduct, v. 35-39.</a:t>
            </a:r>
            <a:endParaRPr b="0" lang="en-US" sz="2400" spc="-1" strike="noStrike">
              <a:solidFill>
                <a:srgbClr val="ffffff"/>
              </a:solidFill>
              <a:latin typeface="Arial"/>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131">
                                            <p:txEl>
                                              <p:pRg st="0" end="0"/>
                                            </p:txEl>
                                          </p:spTgt>
                                        </p:tgtEl>
                                        <p:attrNameLst>
                                          <p:attrName>style.visibility</p:attrName>
                                        </p:attrNameLst>
                                      </p:cBhvr>
                                      <p:to>
                                        <p:strVal val="visible"/>
                                      </p:to>
                                    </p:set>
                                    <p:anim calcmode="lin" valueType="num">
                                      <p:cBhvr additive="repl">
                                        <p:cTn id="77"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131">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1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31">
                                            <p:txEl>
                                              <p:pRg st="1" end="1"/>
                                            </p:txEl>
                                          </p:spTgt>
                                        </p:tgtEl>
                                        <p:attrNameLst>
                                          <p:attrName>style.visibility</p:attrName>
                                        </p:attrNameLst>
                                      </p:cBhvr>
                                      <p:to>
                                        <p:strVal val="visible"/>
                                      </p:to>
                                    </p:set>
                                    <p:anim calcmode="lin" valueType="num">
                                      <p:cBhvr additive="repl">
                                        <p:cTn id="85" dur="1000" fill="hold"/>
                                        <p:tgtEl>
                                          <p:spTgt spid="131">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131">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13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3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5">
                                  <p:stCondLst>
                                    <p:cond delay="0"/>
                                  </p:stCondLst>
                                  <p:childTnLst>
                                    <p:set>
                                      <p:cBhvr>
                                        <p:cTn id="92" dur="1" fill="hold">
                                          <p:stCondLst>
                                            <p:cond delay="0"/>
                                          </p:stCondLst>
                                        </p:cTn>
                                        <p:tgtEl>
                                          <p:spTgt spid="131">
                                            <p:txEl>
                                              <p:pRg st="2" end="2"/>
                                            </p:txEl>
                                          </p:spTgt>
                                        </p:tgtEl>
                                        <p:attrNameLst>
                                          <p:attrName>style.visibility</p:attrName>
                                        </p:attrNameLst>
                                      </p:cBhvr>
                                      <p:to>
                                        <p:strVal val="visible"/>
                                      </p:to>
                                    </p:set>
                                    <p:anim calcmode="lin" valueType="num">
                                      <p:cBhvr additive="repl">
                                        <p:cTn id="93" dur="1000" fill="hold"/>
                                        <p:tgtEl>
                                          <p:spTgt spid="131">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131">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13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3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131">
                                            <p:txEl>
                                              <p:pRg st="3" end="3"/>
                                            </p:txEl>
                                          </p:spTgt>
                                        </p:tgtEl>
                                        <p:attrNameLst>
                                          <p:attrName>style.visibility</p:attrName>
                                        </p:attrNameLst>
                                      </p:cBhvr>
                                      <p:to>
                                        <p:strVal val="visible"/>
                                      </p:to>
                                    </p:set>
                                    <p:anim calcmode="lin" valueType="num">
                                      <p:cBhvr additive="repl">
                                        <p:cTn id="101" dur="1000" fill="hold"/>
                                        <p:tgtEl>
                                          <p:spTgt spid="131">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31">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3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3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shbosheth is killed – 4:1-12</a:t>
            </a:r>
            <a:endParaRPr b="0" lang="en-US" sz="3900" spc="-1" strike="noStrike">
              <a:solidFill>
                <a:srgbClr val="ffffff"/>
              </a:solidFill>
              <a:latin typeface="Arial"/>
            </a:endParaRPr>
          </a:p>
        </p:txBody>
      </p:sp>
      <p:sp>
        <p:nvSpPr>
          <p:cNvPr id="13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Sam 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ount of Rechab and Baanah, two of Ish-bosheth's captains, and of Mephibosheth, the son of Jonathan, v. 1-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hab and Baanah murder Ish-bosheth, and escape; and bring his head to David, v. 5-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is greatly irritated, and commands them to be killed, v. 9-12.</a:t>
            </a:r>
            <a:endParaRPr b="0" lang="en-US" sz="2400" spc="-1" strike="noStrike">
              <a:solidFill>
                <a:srgbClr val="ffffff"/>
              </a:solidFill>
              <a:latin typeface="Arial"/>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anim calcmode="lin" valueType="num">
                                      <p:cBhvr additive="repl">
                                        <p:cTn id="111" dur="10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33">
                                            <p:txEl>
                                              <p:pRg st="1" end="1"/>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3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3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133">
                                            <p:txEl>
                                              <p:pRg st="2" end="2"/>
                                            </p:txEl>
                                          </p:spTgt>
                                        </p:tgtEl>
                                        <p:attrNameLst>
                                          <p:attrName>style.visibility</p:attrName>
                                        </p:attrNameLst>
                                      </p:cBhvr>
                                      <p:to>
                                        <p:strVal val="visible"/>
                                      </p:to>
                                    </p:set>
                                    <p:anim calcmode="lin" valueType="num">
                                      <p:cBhvr additive="repl">
                                        <p:cTn id="119" dur="10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33">
                                            <p:txEl>
                                              <p:pRg st="2" end="2"/>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3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13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133">
                                            <p:txEl>
                                              <p:pRg st="3" end="3"/>
                                            </p:txEl>
                                          </p:spTgt>
                                        </p:tgtEl>
                                        <p:attrNameLst>
                                          <p:attrName>style.visibility</p:attrName>
                                        </p:attrNameLst>
                                      </p:cBhvr>
                                      <p:to>
                                        <p:strVal val="visible"/>
                                      </p:to>
                                    </p:set>
                                    <p:anim calcmode="lin" valueType="num">
                                      <p:cBhvr additive="repl">
                                        <p:cTn id="127" dur="10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133">
                                            <p:txEl>
                                              <p:pRg st="3" end="3"/>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13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13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304920"/>
            <a:ext cx="7620120" cy="5155920"/>
          </a:xfrm>
          <a:prstGeom prst="rect">
            <a:avLst/>
          </a:prstGeom>
          <a:ln w="0">
            <a:noFill/>
          </a:ln>
        </p:spPr>
      </p:pic>
      <p:sp>
        <p:nvSpPr>
          <p:cNvPr id="135" name=""/>
          <p:cNvSpPr txBox="1"/>
          <p:nvPr/>
        </p:nvSpPr>
        <p:spPr>
          <a:xfrm>
            <a:off x="4114800" y="5562720"/>
            <a:ext cx="1371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Hebro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01:32:24Z</dcterms:created>
  <dc:creator>Terry W. Benton</dc:creator>
  <dc:description/>
  <dc:language>en-US</dc:language>
  <cp:lastModifiedBy>Terry Benton</cp:lastModifiedBy>
  <dcterms:modified xsi:type="dcterms:W3CDTF">2005-05-17T03:14:30Z</dcterms:modified>
  <cp:revision>4</cp:revision>
  <dc:subject/>
  <dc:title>The United Kingdom</dc:title>
</cp:coreProperties>
</file>